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FB39-53CA-44BE-9AD3-E14245C63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5D6D-67A7-40C2-8245-2AEDEC8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B631E4-59E4-45FC-B400-3D9F8024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8D043-421F-4BD1-B547-F115CA77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EFF5B-88B9-403E-8C01-4467EF2C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C701A-EE02-4FA7-9257-09D1E52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1B628-D021-4E3C-9832-0300F939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47C51C-8BCC-4D06-856C-A7B0BE2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F8F8C-D53F-4F1A-966C-B23DB84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0FF4D6-ACD4-4628-AD25-FD60F88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B92776-4A21-420F-9F5D-14BBB4F57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266E-3AAF-4AEB-8B84-FDB2946DE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4064-B353-467B-BD83-FD1866B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2422-FED5-47E9-8FA9-D37E276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3354-8CA5-41E4-913B-3250772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F618-7B67-41C5-885D-4889ADB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B5005-2091-4699-BC42-1E752815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ADAB-396C-4434-8F7B-77B5E1C7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0AA0E-19E2-46E9-A090-0DB730C2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391DA-FDDB-4A0E-8481-77A42F7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028A-0D7C-4FDF-9AB8-0BB8504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AE6E-72D5-492D-9F45-172B056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07E3C-F262-46C8-9825-ABED138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3EC0-55B2-401C-B7AF-9C42F37C6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E399-030C-4F17-BE27-CEB95B14A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BC906-AE4A-4A2E-B165-E935706C9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6AFAB-CB49-4626-A34F-591F81CD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D6381-3031-4607-A39C-C666D7B0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AE7A5B-552C-4025-8A2E-BE9F61C6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64876-7CF5-4B1B-AC9B-FD6EEB22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4A1EA-5D5E-43B5-A6E4-30D532A9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4B011-FCB4-467D-9FE5-3EB57B8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6C4CB-E8D8-4DF2-A893-F26FBC0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B3A6A9-0B39-485E-A8A5-31C76128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497C-A081-4E97-9E78-33836F94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31644-5587-414B-88B3-A55D4E4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AC892-0CAD-4DB1-AE9E-FF354272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1D663-B249-4A8B-8DF7-AB206E7891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5602B-9828-494A-858B-15641AFAF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6E2A1-A9A7-48C9-BB40-5D3A9069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0A41B-C0B4-4291-9B60-04A7C3B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61C85-6F95-45DD-AD82-49A6526E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A155E-244F-45DF-86B4-D9552D9E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8EF38-06D7-45F1-AF78-E95F051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AFAA1-A431-4609-8084-B36D9494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599F5-5AAC-4CF9-B4F6-6A98465B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DF194-4F6A-4E7C-ACB8-95D92AD7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F000F-68B9-4337-86E7-463F6A11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6748F-53F3-43E3-A100-5C2DBE4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1ADC2-598B-49FD-8DC1-4150311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C5576-F8DE-4CEF-9DC3-3E6FAAF8FC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8AE46-7F92-46DB-A981-0FE55145C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25F7-93D7-4834-813F-8B59EDAA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CDF3A-647F-481A-B7C1-C697204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14974-CF3C-47F1-9F5A-AF5ECDA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170E1-5B26-4FCD-B3B6-2A72F4E7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D0AE5-CA28-4F27-B5DE-4412D1FE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92696-1D64-4D97-BDAC-38323062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41608-1264-4075-A8C9-A77959D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3A42A-C007-4E93-9821-22E24E7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9EEA6-B7DC-4DB6-A13F-2F55E9F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AC133-B9FC-4769-82F1-D6D471E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14138-CF3D-4484-BCFD-0FDAD82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ACCB0-42F5-4480-9900-01E9A0772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CFA33-CB00-4F21-A5A3-9A6563F0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2DFD-3072-4E78-B5F9-439E7BE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7A8FD-7EA9-4D6C-BD1F-0497D7F2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A4B6-79C3-46A7-9DE8-7E093EFC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3CACC-4C26-4027-B056-D802418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B4641-ED3E-4555-9D74-1B284CF2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70810-0A14-4A5F-ABDE-12C1BDC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4B7C7-216B-4C8D-A988-F8A2CA5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0711-55A8-4F9F-B366-9A1C57F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AA8F-2BFF-483C-867A-4FCF7E0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1318A-F20A-407C-8C34-0AE4B84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7B72A-88A7-4C3C-B106-E2569E0F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C714-CF1D-47CE-8C56-C6A93DB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4CA0-C301-41F7-9FF0-4A58ADDB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9D1A-D05D-4A6F-BA96-BB32789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7502-2185-4581-89F7-1FFF9CF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C81AD-7982-4240-A336-0BE4387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E9E1C-2F37-4B8B-A34E-C4E72768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8234-B218-40A7-B63F-4BFE750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D47B-AC0C-4BEA-9040-09E52781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28E5-7E59-4B88-AB85-58529C01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01CA0-2B16-4EFF-A212-92857FF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005C1-9AFD-49D8-8631-55A02A7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A849-E23F-4D03-B038-ED9C12A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3C52E-AC03-465B-B16C-A38B9CA4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45102-841F-4B4D-B5D6-5781EC5E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1432D-68AB-4800-BF34-6FAB8B2E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BD77-1258-4632-97D6-5A9DFE64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0030A-AA37-4C9C-91EA-60004623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282E6-177E-4F78-A61B-BCC9BE6F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CE2CD-2C8F-4E5D-B8F1-C75ECA8C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D4FE4-6901-4A43-B46B-8A80870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B9270-6016-45FA-8CFF-BC129499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B1501-0ED6-45B5-B845-0E3291A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DD62-C498-4073-917F-5B82A7A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32BDC-F05F-4605-91A2-DA1994D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F954-C1EF-40B9-B4C4-748C969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667A2-676D-418E-88F4-8C19722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AF58F-E801-4306-8C4A-0186F8A0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47B3B-86B9-4A20-A861-D697DE3C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EC1FB-BA32-4E44-9576-B5C79EA1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038A8-4F02-49B5-B7DB-58445F1F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BB234-8C3D-46E9-8970-8A36F4EB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BAC45-8A93-4186-A823-871FF78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E3E3E-A441-47D1-ACF6-754411C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55519-9FE6-40D7-AC3C-866F3009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2790F-C338-413D-8332-0E4839B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E3F5-656C-4513-A077-9EFB4BA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F2752-7A5B-4AED-94F4-761E5A2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4ECB6-32CB-43F8-868D-428F0F6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895C7-098D-443D-8992-200679E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0A8B7-CF9C-44F8-A4FE-A5CD302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B2B1A-92E1-462C-8C15-5C346F16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9214D-F896-4796-9765-D69AFEDB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CC78D-B80D-4D1B-9E1B-865EAD8D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01149-BC87-45E5-A34D-5436D50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740C7-5734-491E-8CDA-6FCCB21A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BFADE-BF11-4E60-B7B9-CC6CDD22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98309-A892-43E1-9550-626DEC76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251C8-263F-4F54-879B-3417641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B4293-DA2D-44F1-9DE3-07DDCC6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4F529-6673-49B2-86E7-10D6B4A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69057-9337-43DB-95D9-93C5E9B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863D1-76B2-4571-A307-B8965AF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580DB-BD14-4F92-A4CB-9B9B00A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C6F81-CB36-431A-8634-1F532D54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620B5-57D9-4451-84F0-8994642D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7EC4D-93C1-45F5-A842-BA002D3C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9C9FE-B47C-452C-9D9A-AF63F5DC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B2A4C-0F93-4F43-9DA1-283BCAE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6CD50-F9D6-48D7-B10D-3C7339F3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244D4-C301-4254-9CA6-1D3BDD8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71E87-122B-4239-9B75-D9E02573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8B92F-28D5-4F87-AC5D-89ED54E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27897-F379-4F60-8483-CC6133B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61F86-91CF-492A-8436-66EAD05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A06D8-56DE-4F9C-8C79-9E36B79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ACF5A-1BAC-4BB0-BD3F-084390C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FA82D-C40B-4AC6-B3B4-F24DDEE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70DFD-5848-4AB7-9775-544277E9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8D6CA-94C9-4C42-AD04-860D450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FC9F3-B8B0-4EB8-B86D-65FAB61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0F065-2FB8-4612-A576-AA02FC4E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2C0A8-9DF7-4656-A213-87B7D7CA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D020F-4BC9-4109-B9F1-3B29749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C63C8-482D-471C-80B2-6EAB3BD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E3B34-646B-48E2-8653-CCE36F4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86D27-4DEE-4291-B64F-DC079BD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68EF7-3BC2-46CC-B8F9-F41BC6C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4FE24-B564-4366-9C0A-4F8E4B6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20E40-0ED9-4590-859C-2E1E29D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244DC-AA26-42D3-B9E9-C395787C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4273E-1050-4596-AB05-3796A833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9AF51-8B6B-49E5-9D21-D06A6E42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50FBA-0471-4C71-824B-214C1F54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FAE29-FFD6-40F9-A5E0-4794168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57E0A-9F2E-4F34-9493-0F98D3F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09B06-C3FF-4CD1-B6F8-33836880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16B29-05CC-482E-A794-FA4D151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DBFD5-A326-4DE5-BDF6-E57B12E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D3102-FE4A-4C02-B851-103C87B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0C82B-AB33-455A-940A-4D14C64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3E973-45F8-42FB-82D4-BBDA5C6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A8F92-A983-4C55-8762-7C2255B7B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A77F2-8982-4327-8219-2177B18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1F62A-7E47-4BA9-AD53-826EE1C0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E3076-1718-4EAF-BDDE-D6E24766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55432-2865-430B-A318-46152494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26E1C-DBC1-44D6-8E45-C5A4B5A4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04361-0B1F-47C4-988E-E93ED659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B6CF2-0B12-4D9B-A376-7A4E032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C7D85-FB2E-4DDF-8E6A-83D7520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34C8F-551A-4D09-ADF4-4BBB30FB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12B1C-3298-4C3F-AD87-2A8B9C3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6704A-6181-4FC9-A9A9-A7759A95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121B8-26C5-4DFA-92E3-95579F0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F2E45-F479-42B6-9697-0964EED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5A1EF-EDA7-46E8-A378-92BC211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BC06D-E344-4D35-BCBB-D23A1738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5C9E3-21FC-4DBF-96FC-E1292F71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E71B6-93E4-44FE-9742-8C14516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82858-4D99-4C79-A7BA-2CBA2862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8213A-8D63-4008-AFEC-F8B0CFCF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31B5E-0F95-497B-A831-1D80313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C7170-C95C-477E-B8AD-E8B5F72F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1C5CD-E948-446E-9A19-56591BB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F9E78-84B6-4146-A0FD-96A45F24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9B668-4E94-40CD-823D-7B6B5AD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29E2D-6B0D-4E6B-95A4-9E6B7BC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4B1F6-E954-4C90-9558-66F791DD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AB2F7-2708-4501-BC1A-66726C1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797F8-321D-4629-A96F-E079867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07DC8-95FE-4AD7-82C7-A555925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7F854-357B-4520-9C23-2A75B5B4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A0B84-FBAD-4C3E-A0CC-0C56B724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41B45-FA87-4E6A-B9FF-1D832F57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6149A-019B-46F4-BD1A-891C5D1F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E3D5E-135D-4ACB-9AB2-59FA0C9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ED97C-1C46-43BA-90DB-431F22C4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52C38-30A1-48CA-A6F7-53B1B925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234B7-BE9A-45BF-863B-441957C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B53E1-A883-42D0-98C6-629CA51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AE924-C3A1-4099-97F0-20E8197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ABE96-169F-4BFC-BC69-E621A123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3E1CE-679A-416F-8454-5259BE3A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FBE20-994C-479B-852E-33A7788C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645D7-4336-4DB6-85B3-DD4FEA5E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E2B2-C811-4205-95C9-86FFBFD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59CE1-23B8-4AC4-9743-1FB6BDFE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B3899-2B28-4CC1-BA93-1CE0AD37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DF518-4E3A-458F-B560-2E58D43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0960C-9D4A-4951-970C-4EA183B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E7481-4826-4DA9-9160-6924E3D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FA8E9-FF8D-4170-B2AB-43BAD4E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7E920-5F41-4C20-A71C-197041E0C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FD47-165A-4B3C-8709-8537388F6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7248-3544-4D74-8D68-3484CA5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6BB8-63C5-4598-A43E-D7C04485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3FF2-0804-418C-9A32-F5D1529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AAFC-3CDE-4FA6-8C11-5E756D3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509F-6AF4-4676-9972-FBFB14E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6875-0B25-4DC6-BA35-67FF0FFB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80C1-7DFE-4B28-9CB2-87BAB56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1B12-B6D6-4016-8FE0-35A1E169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6380-8C0D-4252-BEEB-4FB99E3E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B498-244A-447F-A09E-EB41DE92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0512-5052-4A96-9A72-A92E289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51C4-4610-4AAE-AA56-5E562B5C3E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0B913-A842-4591-90A4-FB254CFAE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F695-C3D0-4AE3-98C1-A33DEA6A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09AD1-5BB5-4A7A-B420-DA8FBDB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A9602-E56C-42F4-9D0B-4152564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DAB8C-6DEA-4035-A6A0-FF1EB1DA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CF97B-27FF-4E5E-BD51-AC287303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0431C-928C-4B1D-A584-1BD13C27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CE8E2-379A-453F-A0AF-0D487C1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B1195-460A-418C-89A2-EE2511B8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8F563-571D-46C7-9EED-6184ECC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8A8D2-797F-4A3F-972C-F267647B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B35F9-FEBA-41BB-84D1-800DC00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63DD-1093-4C72-B1F1-25B1BFBF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A08E3-B836-4319-B3DB-26B3D0C56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42F64-9C1B-4EFE-83C3-2BD6C930D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2897C-CEF4-4198-ADFC-259807C0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21AAF-E08F-4CB6-ABC0-B39749A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64847C-94B9-4306-8C07-AE919E1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2EFD6-9467-474E-B3C3-07EA4D2E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DA0688-1846-4D89-A871-EF468A95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B9419-069F-4F18-8A82-B5C5EF5B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60D74-ABDA-41D3-B207-D4B44C53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8FDDF-AFC9-4E85-B5C8-E8E0C25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31F7-24E3-4E63-A4A6-51DFB6A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227862-3039-48B1-AF55-6A3635D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6FF8C-DD3C-408C-8529-6104EAB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A747D-C13E-452C-990D-3B098C71C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2953-1F94-4E6E-A61C-4A55F9EF7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C8B6-5880-4BA2-8AC5-8C96181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9F11-133B-463C-8A11-E6F341F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9980B-7BBF-41B7-BEDF-6EAC327A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65AD-FC6E-4608-98DA-413A4A60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1AB7-12BC-446F-9662-BA080FFE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442C-7785-444E-9F4F-F5F1FAB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1750-FD64-4608-881C-130632A8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5AB9-A9BA-4996-9E00-9031412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2689-C98B-4935-A943-2117CF6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6B6F-1AB3-47D3-8DB9-5F837D97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698E-CD71-4722-906E-98DF9C0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9700-50B4-4571-B490-D2E7AD7BB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C0CB8-56F5-41AD-BE14-5CD2BA28A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3780B-9188-4615-9A98-4427B39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45EF8-9038-4E81-932E-04EB74D6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7CB2B-9422-4240-9C90-F54D445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354F0-9B01-4A2E-9A42-440B07F1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50D1-46E5-47DA-9FBC-69C3DB5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24517-126D-4C91-A103-C0D55671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A2C73-A0DE-43F0-A76E-60FE9296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E5F96-3B4D-4487-BBD5-05316F3B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E4F99-8430-4C55-8E04-EB4D744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46A1A-8C32-4F11-8E30-6FD9420E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0AC17-BC13-4138-BC96-9F323DD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D7C6F-80A4-4EE7-B943-F022CB1D73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6324A-990F-4026-9BF6-135B94233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A36B4-9D3B-403E-9100-A41F6872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81E583-31AE-4202-BEDB-2CE44A28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A8FB-BC32-4553-8C5D-3112849FCD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D85-5FFB-4590-999A-42B9C1C290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8BF7-C43E-445F-9AD5-91FCF13C21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361B-348D-4919-851A-F13C5A3896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43BE-B2F0-4E61-B9D0-80306635DE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0A3-9CE4-44B5-80A9-199283C01C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06B-DE18-46A3-B8DC-F3354B1E17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7B1D-24F2-4295-8BE8-B5FACB49D3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D29-5840-4D0C-8A27-016E814D6E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4DE-3F6E-40D6-907C-08CFDAEA97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3B2-204A-4351-BD73-072E8458CF4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251A-2960-40F4-BE17-4C75F07B11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9C7-B07C-4610-8449-2B2EE6CA8F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36C-AE7D-4EC6-83A0-7DDB40F278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7C9-B175-4FBD-B795-9BAD0AC646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6F44-B6AF-456C-8D1D-DED2908BB2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0B31-2DBA-460E-9ED6-7AEB6AE80D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D3D-ADDF-4B54-BCD1-1A39918822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850-4DEC-42DB-A4B8-887EC8D64A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80CB-9EA4-42EA-80A2-E7B185CFF6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F97-C517-4F3B-AB2C-096EDCAE3B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130-2664-4592-B107-560971B772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0B6-D230-42E8-939B-C8F59D300B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4692-8712-4691-B0E8-B84689914A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3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047600" y="69840"/>
            <a:ext cx="168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一、复习引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992160" y="1143000"/>
            <a:ext cx="6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5"/>
          <p:cNvGrpSpPr/>
          <p:nvPr/>
        </p:nvGrpSpPr>
        <p:grpSpPr>
          <a:xfrm>
            <a:off x="968400" y="1785960"/>
            <a:ext cx="1531800" cy="571320"/>
            <a:chOff x="968400" y="1785960"/>
            <a:chExt cx="1531800" cy="571320"/>
          </a:xfrm>
        </p:grpSpPr>
        <p:sp>
          <p:nvSpPr>
            <p:cNvPr id="1012" name="矩形 3"/>
            <p:cNvSpPr/>
            <p:nvPr/>
          </p:nvSpPr>
          <p:spPr>
            <a:xfrm>
              <a:off x="96840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2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4"/>
            <p:cNvSpPr/>
            <p:nvPr/>
          </p:nvSpPr>
          <p:spPr>
            <a:xfrm>
              <a:off x="192888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51"/>
          <p:cNvSpPr/>
          <p:nvPr/>
        </p:nvSpPr>
        <p:spPr>
          <a:xfrm>
            <a:off x="1928880" y="1785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7"/>
          <p:cNvGrpSpPr/>
          <p:nvPr/>
        </p:nvGrpSpPr>
        <p:grpSpPr>
          <a:xfrm>
            <a:off x="2968920" y="1785960"/>
            <a:ext cx="1531440" cy="571320"/>
            <a:chOff x="2968920" y="1785960"/>
            <a:chExt cx="1531440" cy="571320"/>
          </a:xfrm>
        </p:grpSpPr>
        <p:sp>
          <p:nvSpPr>
            <p:cNvPr id="1016" name="矩形 8"/>
            <p:cNvSpPr/>
            <p:nvPr/>
          </p:nvSpPr>
          <p:spPr>
            <a:xfrm>
              <a:off x="296892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9"/>
            <p:cNvSpPr/>
            <p:nvPr/>
          </p:nvSpPr>
          <p:spPr>
            <a:xfrm>
              <a:off x="392904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0"/>
          <p:cNvGrpSpPr/>
          <p:nvPr/>
        </p:nvGrpSpPr>
        <p:grpSpPr>
          <a:xfrm>
            <a:off x="4969080" y="1785960"/>
            <a:ext cx="1531440" cy="571320"/>
            <a:chOff x="4969080" y="1785960"/>
            <a:chExt cx="1531440" cy="571320"/>
          </a:xfrm>
        </p:grpSpPr>
        <p:sp>
          <p:nvSpPr>
            <p:cNvPr id="1019" name="矩形 11"/>
            <p:cNvSpPr/>
            <p:nvPr/>
          </p:nvSpPr>
          <p:spPr>
            <a:xfrm>
              <a:off x="496908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2"/>
            <p:cNvSpPr/>
            <p:nvPr/>
          </p:nvSpPr>
          <p:spPr>
            <a:xfrm>
              <a:off x="592920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13"/>
          <p:cNvGrpSpPr/>
          <p:nvPr/>
        </p:nvGrpSpPr>
        <p:grpSpPr>
          <a:xfrm>
            <a:off x="7040880" y="1785960"/>
            <a:ext cx="1531440" cy="571320"/>
            <a:chOff x="7040880" y="1785960"/>
            <a:chExt cx="1531440" cy="571320"/>
          </a:xfrm>
        </p:grpSpPr>
        <p:sp>
          <p:nvSpPr>
            <p:cNvPr id="1022" name="矩形 14"/>
            <p:cNvSpPr/>
            <p:nvPr/>
          </p:nvSpPr>
          <p:spPr>
            <a:xfrm>
              <a:off x="7040880" y="17859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15"/>
            <p:cNvSpPr/>
            <p:nvPr/>
          </p:nvSpPr>
          <p:spPr>
            <a:xfrm>
              <a:off x="8001000" y="17859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16"/>
          <p:cNvGrpSpPr/>
          <p:nvPr/>
        </p:nvGrpSpPr>
        <p:grpSpPr>
          <a:xfrm>
            <a:off x="968400" y="2714760"/>
            <a:ext cx="1531800" cy="571320"/>
            <a:chOff x="968400" y="2714760"/>
            <a:chExt cx="1531800" cy="571320"/>
          </a:xfrm>
        </p:grpSpPr>
        <p:sp>
          <p:nvSpPr>
            <p:cNvPr id="1025" name="矩形 17"/>
            <p:cNvSpPr/>
            <p:nvPr/>
          </p:nvSpPr>
          <p:spPr>
            <a:xfrm>
              <a:off x="96840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矩形 18"/>
            <p:cNvSpPr/>
            <p:nvPr/>
          </p:nvSpPr>
          <p:spPr>
            <a:xfrm>
              <a:off x="192888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19"/>
          <p:cNvGrpSpPr/>
          <p:nvPr/>
        </p:nvGrpSpPr>
        <p:grpSpPr>
          <a:xfrm>
            <a:off x="2968920" y="2714760"/>
            <a:ext cx="1531440" cy="571320"/>
            <a:chOff x="2968920" y="2714760"/>
            <a:chExt cx="1531440" cy="571320"/>
          </a:xfrm>
        </p:grpSpPr>
        <p:sp>
          <p:nvSpPr>
            <p:cNvPr id="1028" name="矩形 20"/>
            <p:cNvSpPr/>
            <p:nvPr/>
          </p:nvSpPr>
          <p:spPr>
            <a:xfrm>
              <a:off x="296892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21"/>
            <p:cNvSpPr/>
            <p:nvPr/>
          </p:nvSpPr>
          <p:spPr>
            <a:xfrm>
              <a:off x="392904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22"/>
          <p:cNvGrpSpPr/>
          <p:nvPr/>
        </p:nvGrpSpPr>
        <p:grpSpPr>
          <a:xfrm>
            <a:off x="4969080" y="2714760"/>
            <a:ext cx="1531440" cy="571320"/>
            <a:chOff x="4969080" y="2714760"/>
            <a:chExt cx="1531440" cy="571320"/>
          </a:xfrm>
        </p:grpSpPr>
        <p:sp>
          <p:nvSpPr>
            <p:cNvPr id="1031" name="矩形 23"/>
            <p:cNvSpPr/>
            <p:nvPr/>
          </p:nvSpPr>
          <p:spPr>
            <a:xfrm>
              <a:off x="496908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24"/>
            <p:cNvSpPr/>
            <p:nvPr/>
          </p:nvSpPr>
          <p:spPr>
            <a:xfrm>
              <a:off x="592920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5"/>
          <p:cNvGrpSpPr/>
          <p:nvPr/>
        </p:nvGrpSpPr>
        <p:grpSpPr>
          <a:xfrm>
            <a:off x="7040880" y="2714760"/>
            <a:ext cx="1531440" cy="571320"/>
            <a:chOff x="7040880" y="2714760"/>
            <a:chExt cx="1531440" cy="571320"/>
          </a:xfrm>
        </p:grpSpPr>
        <p:sp>
          <p:nvSpPr>
            <p:cNvPr id="1034" name="矩形 26"/>
            <p:cNvSpPr/>
            <p:nvPr/>
          </p:nvSpPr>
          <p:spPr>
            <a:xfrm>
              <a:off x="7040880" y="271476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7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27"/>
            <p:cNvSpPr/>
            <p:nvPr/>
          </p:nvSpPr>
          <p:spPr>
            <a:xfrm>
              <a:off x="8001000" y="271476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8"/>
          <p:cNvGrpSpPr/>
          <p:nvPr/>
        </p:nvGrpSpPr>
        <p:grpSpPr>
          <a:xfrm>
            <a:off x="968400" y="3571920"/>
            <a:ext cx="1531800" cy="571320"/>
            <a:chOff x="968400" y="3571920"/>
            <a:chExt cx="1531800" cy="571320"/>
          </a:xfrm>
        </p:grpSpPr>
        <p:sp>
          <p:nvSpPr>
            <p:cNvPr id="1037" name="矩形 29"/>
            <p:cNvSpPr/>
            <p:nvPr/>
          </p:nvSpPr>
          <p:spPr>
            <a:xfrm>
              <a:off x="96840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30"/>
            <p:cNvSpPr/>
            <p:nvPr/>
          </p:nvSpPr>
          <p:spPr>
            <a:xfrm>
              <a:off x="192888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1"/>
          <p:cNvGrpSpPr/>
          <p:nvPr/>
        </p:nvGrpSpPr>
        <p:grpSpPr>
          <a:xfrm>
            <a:off x="2968920" y="3571920"/>
            <a:ext cx="1531440" cy="571320"/>
            <a:chOff x="2968920" y="3571920"/>
            <a:chExt cx="1531440" cy="571320"/>
          </a:xfrm>
        </p:grpSpPr>
        <p:sp>
          <p:nvSpPr>
            <p:cNvPr id="1040" name="矩形 32"/>
            <p:cNvSpPr/>
            <p:nvPr/>
          </p:nvSpPr>
          <p:spPr>
            <a:xfrm>
              <a:off x="296892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33"/>
            <p:cNvSpPr/>
            <p:nvPr/>
          </p:nvSpPr>
          <p:spPr>
            <a:xfrm>
              <a:off x="392904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4"/>
          <p:cNvGrpSpPr/>
          <p:nvPr/>
        </p:nvGrpSpPr>
        <p:grpSpPr>
          <a:xfrm>
            <a:off x="4969080" y="3571920"/>
            <a:ext cx="1531440" cy="571320"/>
            <a:chOff x="4969080" y="3571920"/>
            <a:chExt cx="1531440" cy="571320"/>
          </a:xfrm>
        </p:grpSpPr>
        <p:sp>
          <p:nvSpPr>
            <p:cNvPr id="1043" name="矩形 35"/>
            <p:cNvSpPr/>
            <p:nvPr/>
          </p:nvSpPr>
          <p:spPr>
            <a:xfrm>
              <a:off x="496908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36"/>
            <p:cNvSpPr/>
            <p:nvPr/>
          </p:nvSpPr>
          <p:spPr>
            <a:xfrm>
              <a:off x="592920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37"/>
          <p:cNvGrpSpPr/>
          <p:nvPr/>
        </p:nvGrpSpPr>
        <p:grpSpPr>
          <a:xfrm>
            <a:off x="7040880" y="3571920"/>
            <a:ext cx="1531440" cy="571320"/>
            <a:chOff x="7040880" y="3571920"/>
            <a:chExt cx="1531440" cy="571320"/>
          </a:xfrm>
        </p:grpSpPr>
        <p:sp>
          <p:nvSpPr>
            <p:cNvPr id="1046" name="矩形 38"/>
            <p:cNvSpPr/>
            <p:nvPr/>
          </p:nvSpPr>
          <p:spPr>
            <a:xfrm>
              <a:off x="7040880" y="35719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×5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39"/>
            <p:cNvSpPr/>
            <p:nvPr/>
          </p:nvSpPr>
          <p:spPr>
            <a:xfrm>
              <a:off x="8001000" y="35719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组合 40"/>
          <p:cNvGrpSpPr/>
          <p:nvPr/>
        </p:nvGrpSpPr>
        <p:grpSpPr>
          <a:xfrm>
            <a:off x="968400" y="4500720"/>
            <a:ext cx="1531800" cy="571320"/>
            <a:chOff x="968400" y="4500720"/>
            <a:chExt cx="1531800" cy="571320"/>
          </a:xfrm>
        </p:grpSpPr>
        <p:sp>
          <p:nvSpPr>
            <p:cNvPr id="1049" name="矩形 41"/>
            <p:cNvSpPr/>
            <p:nvPr/>
          </p:nvSpPr>
          <p:spPr>
            <a:xfrm>
              <a:off x="96840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6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42"/>
            <p:cNvSpPr/>
            <p:nvPr/>
          </p:nvSpPr>
          <p:spPr>
            <a:xfrm>
              <a:off x="192888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组合 43"/>
          <p:cNvGrpSpPr/>
          <p:nvPr/>
        </p:nvGrpSpPr>
        <p:grpSpPr>
          <a:xfrm>
            <a:off x="2968920" y="4500720"/>
            <a:ext cx="1531440" cy="571320"/>
            <a:chOff x="2968920" y="4500720"/>
            <a:chExt cx="1531440" cy="571320"/>
          </a:xfrm>
        </p:grpSpPr>
        <p:sp>
          <p:nvSpPr>
            <p:cNvPr id="1052" name="矩形 44"/>
            <p:cNvSpPr/>
            <p:nvPr/>
          </p:nvSpPr>
          <p:spPr>
            <a:xfrm>
              <a:off x="296892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45"/>
            <p:cNvSpPr/>
            <p:nvPr/>
          </p:nvSpPr>
          <p:spPr>
            <a:xfrm>
              <a:off x="392904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46"/>
          <p:cNvGrpSpPr/>
          <p:nvPr/>
        </p:nvGrpSpPr>
        <p:grpSpPr>
          <a:xfrm>
            <a:off x="4969080" y="4500720"/>
            <a:ext cx="1531440" cy="571320"/>
            <a:chOff x="4969080" y="4500720"/>
            <a:chExt cx="1531440" cy="571320"/>
          </a:xfrm>
        </p:grpSpPr>
        <p:sp>
          <p:nvSpPr>
            <p:cNvPr id="1055" name="矩形 47"/>
            <p:cNvSpPr/>
            <p:nvPr/>
          </p:nvSpPr>
          <p:spPr>
            <a:xfrm>
              <a:off x="496908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8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48"/>
            <p:cNvSpPr/>
            <p:nvPr/>
          </p:nvSpPr>
          <p:spPr>
            <a:xfrm>
              <a:off x="592920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49"/>
          <p:cNvGrpSpPr/>
          <p:nvPr/>
        </p:nvGrpSpPr>
        <p:grpSpPr>
          <a:xfrm>
            <a:off x="7040880" y="4500720"/>
            <a:ext cx="1531440" cy="571320"/>
            <a:chOff x="7040880" y="4500720"/>
            <a:chExt cx="1531440" cy="571320"/>
          </a:xfrm>
        </p:grpSpPr>
        <p:sp>
          <p:nvSpPr>
            <p:cNvPr id="1058" name="矩形 50"/>
            <p:cNvSpPr/>
            <p:nvPr/>
          </p:nvSpPr>
          <p:spPr>
            <a:xfrm>
              <a:off x="7040880" y="4500720"/>
              <a:ext cx="90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4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51"/>
            <p:cNvSpPr/>
            <p:nvPr/>
          </p:nvSpPr>
          <p:spPr>
            <a:xfrm>
              <a:off x="8001000" y="4500720"/>
              <a:ext cx="5713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Rectangle 51"/>
          <p:cNvSpPr/>
          <p:nvPr/>
        </p:nvSpPr>
        <p:spPr>
          <a:xfrm>
            <a:off x="4000680" y="1785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1"/>
          <p:cNvSpPr/>
          <p:nvPr/>
        </p:nvSpPr>
        <p:spPr>
          <a:xfrm>
            <a:off x="5929200" y="1785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8001000" y="1785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1"/>
          <p:cNvSpPr/>
          <p:nvPr/>
        </p:nvSpPr>
        <p:spPr>
          <a:xfrm>
            <a:off x="1928880" y="27147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51"/>
          <p:cNvSpPr/>
          <p:nvPr/>
        </p:nvSpPr>
        <p:spPr>
          <a:xfrm>
            <a:off x="4000680" y="27147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1"/>
          <p:cNvSpPr/>
          <p:nvPr/>
        </p:nvSpPr>
        <p:spPr>
          <a:xfrm>
            <a:off x="5929200" y="2714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1"/>
          <p:cNvSpPr/>
          <p:nvPr/>
        </p:nvSpPr>
        <p:spPr>
          <a:xfrm>
            <a:off x="8001000" y="2714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1"/>
          <p:cNvSpPr/>
          <p:nvPr/>
        </p:nvSpPr>
        <p:spPr>
          <a:xfrm>
            <a:off x="1928880" y="3571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1"/>
          <p:cNvSpPr/>
          <p:nvPr/>
        </p:nvSpPr>
        <p:spPr>
          <a:xfrm>
            <a:off x="4000680" y="3571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51"/>
          <p:cNvSpPr/>
          <p:nvPr/>
        </p:nvSpPr>
        <p:spPr>
          <a:xfrm>
            <a:off x="592920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51"/>
          <p:cNvSpPr/>
          <p:nvPr/>
        </p:nvSpPr>
        <p:spPr>
          <a:xfrm>
            <a:off x="800100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1"/>
          <p:cNvSpPr/>
          <p:nvPr/>
        </p:nvSpPr>
        <p:spPr>
          <a:xfrm>
            <a:off x="1928880" y="4500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1"/>
          <p:cNvSpPr/>
          <p:nvPr/>
        </p:nvSpPr>
        <p:spPr>
          <a:xfrm>
            <a:off x="4000680" y="4500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5929200" y="4500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8001000" y="4500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1"/>
          <p:cNvSpPr/>
          <p:nvPr/>
        </p:nvSpPr>
        <p:spPr>
          <a:xfrm>
            <a:off x="947880" y="880920"/>
            <a:ext cx="6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玩具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2" descr="D:\我的文档-桌面-收藏夹\桌面\2457331_132113066873_2.jpg"/>
          <p:cNvPicPr/>
          <p:nvPr/>
        </p:nvPicPr>
        <p:blipFill>
          <a:blip r:embed="rId1"/>
          <a:srcRect l="0" t="36366" r="45463" b="36366"/>
          <a:stretch/>
        </p:blipFill>
        <p:spPr>
          <a:xfrm>
            <a:off x="785880" y="1714680"/>
            <a:ext cx="1714320" cy="8571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D:\我的文档-桌面-收藏夹\桌面\2457331_132113066873_2.jpg"/>
          <p:cNvPicPr/>
          <p:nvPr/>
        </p:nvPicPr>
        <p:blipFill>
          <a:blip r:embed="rId2"/>
          <a:srcRect l="34097" t="63646" r="34097" b="0"/>
          <a:stretch/>
        </p:blipFill>
        <p:spPr>
          <a:xfrm>
            <a:off x="321480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D:\我的文档-桌面-收藏夹\桌面\u=974092105,1253174289&amp;fm=21&amp;gp=0副本.png"/>
          <p:cNvPicPr/>
          <p:nvPr/>
        </p:nvPicPr>
        <p:blipFill>
          <a:blip r:embed="rId3"/>
          <a:stretch/>
        </p:blipFill>
        <p:spPr>
          <a:xfrm>
            <a:off x="4786200" y="1428840"/>
            <a:ext cx="1338480" cy="10652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D:\我的文档-桌面-收藏夹\桌面\u=3154193641,2019822691&amp;fm=21&amp;gp=0.jpg"/>
          <p:cNvPicPr/>
          <p:nvPr/>
        </p:nvPicPr>
        <p:blipFill>
          <a:blip r:embed="rId4"/>
          <a:stretch/>
        </p:blipFill>
        <p:spPr>
          <a:xfrm>
            <a:off x="7072200" y="13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0" name="矩形 8"/>
          <p:cNvSpPr/>
          <p:nvPr/>
        </p:nvSpPr>
        <p:spPr>
          <a:xfrm>
            <a:off x="1214280" y="2571840"/>
            <a:ext cx="78588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"/>
          <p:cNvSpPr/>
          <p:nvPr/>
        </p:nvSpPr>
        <p:spPr>
          <a:xfrm>
            <a:off x="3357720" y="2571840"/>
            <a:ext cx="78552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0"/>
          <p:cNvSpPr/>
          <p:nvPr/>
        </p:nvSpPr>
        <p:spPr>
          <a:xfrm>
            <a:off x="5072040" y="2571840"/>
            <a:ext cx="78588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"/>
          <p:cNvSpPr/>
          <p:nvPr/>
        </p:nvSpPr>
        <p:spPr>
          <a:xfrm>
            <a:off x="7286760" y="2571840"/>
            <a:ext cx="785520" cy="4284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6" descr="D:\我的文档-桌面-收藏夹\桌面\sy_20100802173248820039.jpg"/>
          <p:cNvPicPr/>
          <p:nvPr/>
        </p:nvPicPr>
        <p:blipFill>
          <a:blip r:embed="rId5"/>
          <a:srcRect l="12408" t="16319" r="68100" b="54397"/>
          <a:stretch/>
        </p:blipFill>
        <p:spPr>
          <a:xfrm>
            <a:off x="1071720" y="4214880"/>
            <a:ext cx="1000080" cy="1272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6" descr="D:\我的文档-桌面-收藏夹\桌面\sy_20100802173248820039.jpg"/>
          <p:cNvPicPr/>
          <p:nvPr/>
        </p:nvPicPr>
        <p:blipFill>
          <a:blip r:embed="rId6"/>
          <a:srcRect l="37223" t="18411" r="45057" b="54397"/>
          <a:stretch/>
        </p:blipFill>
        <p:spPr>
          <a:xfrm>
            <a:off x="3143160" y="42861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7" descr="D:\我的文档-桌面-收藏夹\桌面\sy_20100802173248820039.jpg"/>
          <p:cNvPicPr/>
          <p:nvPr/>
        </p:nvPicPr>
        <p:blipFill>
          <a:blip r:embed="rId7"/>
          <a:srcRect l="67042" t="17919" r="15250" b="50732"/>
          <a:stretch/>
        </p:blipFill>
        <p:spPr>
          <a:xfrm>
            <a:off x="5000760" y="421488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7" descr="D:\我的文档-桌面-收藏夹\桌面\sy_20100802173248820039.jpg"/>
          <p:cNvPicPr/>
          <p:nvPr/>
        </p:nvPicPr>
        <p:blipFill>
          <a:blip r:embed="rId8"/>
          <a:srcRect l="70839" t="55247" r="13986" b="16393"/>
          <a:stretch/>
        </p:blipFill>
        <p:spPr>
          <a:xfrm>
            <a:off x="7286760" y="4429080"/>
            <a:ext cx="766800" cy="1214640"/>
          </a:xfrm>
          <a:prstGeom prst="rect">
            <a:avLst/>
          </a:prstGeom>
          <a:ln w="0">
            <a:noFill/>
          </a:ln>
        </p:spPr>
      </p:pic>
      <p:sp>
        <p:nvSpPr>
          <p:cNvPr id="1088" name="矩形 16"/>
          <p:cNvSpPr/>
          <p:nvPr/>
        </p:nvSpPr>
        <p:spPr>
          <a:xfrm>
            <a:off x="100008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7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7"/>
          <p:cNvSpPr/>
          <p:nvPr/>
        </p:nvSpPr>
        <p:spPr>
          <a:xfrm>
            <a:off x="314316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3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8"/>
          <p:cNvSpPr/>
          <p:nvPr/>
        </p:nvSpPr>
        <p:spPr>
          <a:xfrm>
            <a:off x="4929120" y="5286240"/>
            <a:ext cx="1071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5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9"/>
          <p:cNvSpPr/>
          <p:nvPr/>
        </p:nvSpPr>
        <p:spPr>
          <a:xfrm>
            <a:off x="7143840" y="5286240"/>
            <a:ext cx="1071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4×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直接连接符 21"/>
          <p:cNvSpPr/>
          <p:nvPr/>
        </p:nvSpPr>
        <p:spPr>
          <a:xfrm>
            <a:off x="1571760" y="3143160"/>
            <a:ext cx="3857400" cy="107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直接连接符 24"/>
          <p:cNvSpPr/>
          <p:nvPr/>
        </p:nvSpPr>
        <p:spPr>
          <a:xfrm>
            <a:off x="3714840" y="3143160"/>
            <a:ext cx="3857400" cy="107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直接连接符 25"/>
          <p:cNvSpPr/>
          <p:nvPr/>
        </p:nvSpPr>
        <p:spPr>
          <a:xfrm flipH="1">
            <a:off x="1714320" y="3143160"/>
            <a:ext cx="3786120" cy="10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直接连接符 28"/>
          <p:cNvSpPr/>
          <p:nvPr/>
        </p:nvSpPr>
        <p:spPr>
          <a:xfrm flipH="1">
            <a:off x="3928680" y="3142440"/>
            <a:ext cx="37861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97" name="圆角矩形 67" descr=""/>
            <p:cNvPicPr/>
            <p:nvPr/>
          </p:nvPicPr>
          <p:blipFill>
            <a:blip r:embed="rId9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99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7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73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74" descr=""/>
              <p:cNvPicPr/>
              <p:nvPr/>
            </p:nvPicPr>
            <p:blipFill>
              <a:blip r:embed="rId13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75" descr=""/>
              <p:cNvPicPr/>
              <p:nvPr/>
            </p:nvPicPr>
            <p:blipFill>
              <a:blip r:embed="rId14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76" descr=""/>
              <p:cNvPicPr/>
              <p:nvPr/>
            </p:nvPicPr>
            <p:blipFill>
              <a:blip r:embed="rId15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40:1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